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39E3-FCDB-477E-BEE7-7F94DA6D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30C3-8542-4A40-B01F-7A53F9AB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5D78-5D82-4537-B8D2-50D25E72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29E1-CA7B-4400-B80A-C38075AD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A5AF-8302-4C7D-B918-479A2CCD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080-9725-485B-8629-A285D47D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D2EB-CB26-4C0B-9B9B-A5611C5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8D0D-9D37-4D72-B69C-096B5733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3AC5-6684-454A-BD23-948A153A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402-508B-4005-A529-2F45903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7A9-0440-4313-A16B-A7F5577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0AB1-E4F5-4325-A3A5-DE8DDBC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470-4EA0-4548-A635-D834B3A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B8D-D4EF-478F-A019-E0A7403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C93A-FC4C-4019-BFF7-73B9CB4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89B-1A15-4035-86A7-FCC68BF1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DD30-D38B-4615-8C97-0A8B98DD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DBBC-B925-4425-A13C-2C504600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F48B-760A-4368-9766-75F9854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2EE6-C993-4940-BA9D-007B035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1F0A-7BBF-4A0C-8616-E7515E2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AF2C-2BAB-4931-BBC4-5618FE1D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10BC-CB80-443F-9CCA-292E0A6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7D57-B1BC-4AE3-AB54-25AC692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9FBE-D28B-4F1E-A365-2ABB67F5B85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5C7F-57FA-42DE-972C-7DA402CF064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nderstanding Computers &amp; Computer Literac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omputer Concepts BASICS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Lesson 1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assifying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are either Special Purpose or General Purpose computer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pecial Purpose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d to control something else. Tiny chips are embedded in devices such as: dishwashers, airport radar system, bathroom sca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neral Purpos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divided into 5 categories based upon size, function, cost, performan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General Purpose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ktop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designed so all components fit on/under desk.  PC &amp; Apple (Mac) are most popula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bile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ersonal computers such as notebooks (laptops). Designed to be carried from one place to another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bile devices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fit into the palm of your hand (PDA, hand-helds, smart-phone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d-range serv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(minicomputer) used by small companies that can support hundreds of us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frame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large &amp; expensive computer that can support hundreds/thousands of us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per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fastest type of computer. Used by government &amp; large corporations to process enormous amounts of da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puter Softwa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2 types of software (programs)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pplication soft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set of programs that perform tasks for us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ord processing, spreadsheets, databas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ystem soft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set of programs that controls the operations of the compu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indows or Mac system softwa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raphical User Interface (GUI):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we see when we start up Windows. Includes ic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con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small image that represents file, command, or other func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nications &amp; Network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lectronic Communication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echnology that allows computers to communicate with each other &amp; other devic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ransmission of text, numbers, voice, vide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69: 1</a:t>
            </a:r>
            <a:r>
              <a:rPr b="0" lang="en-US" sz="32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message sent via telephone from comput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Arial"/>
              </a:rPr>
              <a:t>Electronic communication require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Send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 that is sending mess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Receiv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 receiving mess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hannel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media that carries/transports message (phone wire, coaxial cable, microwave signal, fiber-optic cable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tocol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he rules that govern the transfer of dat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etwork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etwork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a group of two or more computer systems linked together via communication devic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llows computers to “share” printers, data, information, &amp; progra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odes (Client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computers on a net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Servers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s that allocate resources on a net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anet &amp; Extrane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any companies have intranets in their organizati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ranet: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network put together for just certain people (company, school, etc.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liable network, Secure network, no outsiders can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tranet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systems that allow outside organizations to access company’s internal inform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rnet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world’s largest network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riginally a network that included only the government &amp; universit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990: Original network (called ARPANET) was disbanded &amp; the Internet was bor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echnology &amp; Everyday Lif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have affected the way we live our live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y have become a necessary tool in almost every activity &amp; type of busines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does it affect you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chool, security, gaming, research, home appliances, TV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ing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are most important invention of this past century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ere do we use computer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chool &amp;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ideo ga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V, movies (instant replays &amp; special effects!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, E-mail, Video-conferenc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puters in our Futu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future is hard to predict, but we can assume that computers will be more powerful and less expensive.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most every type of job will somehow involve a comput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nectivity will continue to evolv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What is the computer of the future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istory of the Computer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omputers: invented in 1940s &amp; 1950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reat big machines (as big as small buildings and cost millions of $$$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ames: UNIVAC, ENI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ower:  less power than your typical pocket calculato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p through early 1970s, only government &amp; corporations used these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433680" cy="26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34005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971: 1</a:t>
            </a:r>
            <a:r>
              <a:rPr b="0" lang="en-US" sz="28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Microprocesso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ve Job &amp; Steve Wozniak applied this technology to personal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976: 1</a:t>
            </a:r>
            <a:r>
              <a:rPr b="0" lang="en-US" sz="24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pple computer (developed by both Steve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981: Bill Gates introduced IBM P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76720" cy="314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3657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What are a Computer and Computer System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ut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n electronic device th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ceives data (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cess dat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ores dat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duces a result (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mputer System: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cludes Hardware, Software, Data, &amp; Peop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ard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the actual machine, wires, transistors, circuits, monitors, &amp; prin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ftware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structions or programs used for controlling the compu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ata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text, numbers, sound, images, vide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formation: Process of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ata going into computer (input), is processed, stored data, and output produce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Users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People who use computers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00"/>
                </a:solidFill>
                <a:latin typeface="Arial"/>
              </a:rPr>
              <a:t>Examples of a Computer System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put (receives data)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ustomer name is entered into computer, scans ISBN, types info, uses scann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rocess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omputer uses stored instructions to process data into inform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Outputs Information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monitor or printer displays inform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tores data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data &amp; information are stored on a disk drive or other storage devi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4584240"/>
            <a:ext cx="8654760" cy="2337840"/>
            <a:chOff x="228600" y="4584240"/>
            <a:chExt cx="8654760" cy="2337840"/>
          </a:xfrm>
        </p:grpSpPr>
        <p:sp>
          <p:nvSpPr>
            <p:cNvPr id="125" name=""/>
            <p:cNvSpPr/>
            <p:nvPr/>
          </p:nvSpPr>
          <p:spPr>
            <a:xfrm rot="964200">
              <a:off x="6324480" y="4876920"/>
              <a:ext cx="2362320" cy="1752480"/>
            </a:xfrm>
            <a:prstGeom prst="foldedCorner">
              <a:avLst>
                <a:gd name="adj" fmla="val 40550"/>
              </a:avLst>
            </a:prstGeom>
            <a:solidFill>
              <a:srgbClr val="cccc00">
                <a:alpha val="41000"/>
              </a:srgbClr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743200" y="51055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4114800" y="5105520"/>
              <a:ext cx="1825560" cy="13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28600" y="5181480"/>
              <a:ext cx="2362320" cy="119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John Smith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2358 Smithville Rd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Movie 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Movie 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59400">
              <a:off x="6324840" y="5105520"/>
              <a:ext cx="2362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John Smith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2358 Smithville Rd.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Smithville, OH 45454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Movie 1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Movie 2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computer is not overly complicated. It only performs 2 operation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rithmetic:  add, subtract, multiply, divide and comparis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ogical: And, Or, No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4495680"/>
            <a:ext cx="4495680" cy="2210040"/>
          </a:xfrm>
          <a:prstGeom prst="horizontalScroll">
            <a:avLst>
              <a:gd name="adj" fmla="val 14328"/>
            </a:avLst>
          </a:prstGeom>
          <a:solidFill>
            <a:srgbClr val="cccc00">
              <a:alpha val="46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d You Know?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A computer won 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orld Chess Championshi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ying against a human being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re Computers Intelligent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.  They can only do what we ask them to do.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re there any advantages to using a computer? –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Yes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ed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can perform billions of calculations per seco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iability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electronic components are depend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uracy: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F data is entered correctly, computers generate error-fre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can store/retrieve volumes of data/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unications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can communicate &amp; share resources with other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01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4:15:49Z</dcterms:created>
  <dc:creator>LDSD</dc:creator>
  <dc:description/>
  <dc:language>en-US</dc:language>
  <cp:lastModifiedBy>LDSD</cp:lastModifiedBy>
  <dcterms:modified xsi:type="dcterms:W3CDTF">2010-02-23T06:13:39Z</dcterms:modified>
  <cp:revision>19</cp:revision>
  <dc:subject/>
  <dc:title>Slide 1</dc:title>
</cp:coreProperties>
</file>